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26A-462E-47E9-9725-B8A47A2D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E86F-AAE0-47A8-BF13-6AF1ABD3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A86B-721C-4B94-8034-7FF9EBA3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F24A-12A2-44CD-A330-7DA8878C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2D16-2078-4222-9F34-EC59191C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1CBD-212C-4B05-BB35-6DBBFFF0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BA77-9BC3-47A6-8F44-20C1B2E4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4B9E-5E21-46F9-B41F-30E0D0CE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5357-E4B0-4D82-ACBF-E8BFBA95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EBF9-F0BD-4EA6-AFC4-3E11E89B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24A7-C9A4-414E-BE9D-51E188AF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A9A-DE6B-40DE-8AF3-6915DBC0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B67A-416F-4D38-90F1-2BFECF15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5F99-33FC-434B-A90D-09D6CBBD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E562-6EDA-4397-8F5E-453F9311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D5B9-EDD2-46A9-A0F4-691EF6A2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EB67-52E2-44A4-894C-6B20FB3F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62B4-B40B-4EDC-9307-87EFAADB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1AC-2331-45A2-BF83-A39A8EB0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8BC-DB39-4A83-BD41-5557979C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9E6-3218-48D9-A426-C7CAD142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8B8-4A75-4D7A-AB6D-3DB27782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63A8-528E-4AAF-8EB6-53355998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6C35-3181-4B71-B3C4-34FFE797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-9360" y="0"/>
            <a:ext cx="4809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53360" cy="6858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" name="AutoShape 9"/>
          <p:cNvSpPr/>
          <p:nvPr/>
        </p:nvSpPr>
        <p:spPr>
          <a:xfrm>
            <a:off x="304920" y="289080"/>
            <a:ext cx="7670520" cy="64440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B639-D0A6-4BC3-86BA-F54D246EE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 Box 13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AutoShape 14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2c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2771640" y="549360"/>
            <a:ext cx="6372360" cy="3943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9360" y="9360"/>
            <a:ext cx="1473480" cy="6848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4267080"/>
            <a:ext cx="9153360" cy="11034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1473120" y="5105520"/>
            <a:ext cx="7137360" cy="53316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254480" y="5838840"/>
            <a:ext cx="1079640" cy="635760"/>
            <a:chOff x="4254480" y="5838840"/>
            <a:chExt cx="1079640" cy="635760"/>
          </a:xfrm>
        </p:grpSpPr>
        <p:sp>
          <p:nvSpPr>
            <p:cNvPr id="51" name="Text Box 14"/>
            <p:cNvSpPr/>
            <p:nvPr/>
          </p:nvSpPr>
          <p:spPr>
            <a:xfrm>
              <a:off x="425448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716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2" name="AutoShape 15"/>
            <p:cNvSpPr/>
            <p:nvPr/>
          </p:nvSpPr>
          <p:spPr>
            <a:xfrm rot="5400000">
              <a:off x="464832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a2c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94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6297-1E6B-4154-BBAA-308C9537715C}" type="slidenum">
              <a:rPr b="0" lang="en-US" sz="1200" spc="-1" strike="noStrike">
                <a:solidFill>
                  <a:srgbClr val="1d49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1280" y="4190760"/>
            <a:ext cx="489744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lide Power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520" y="51278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ca3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ca35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ca35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c5833"/>
              </a:gs>
              <a:gs pos="50000">
                <a:srgbClr val="8ca35f"/>
              </a:gs>
              <a:gs pos="100000">
                <a:srgbClr val="4c58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9683c"/>
              </a:gs>
              <a:gs pos="100000">
                <a:srgbClr val="8ca3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1b05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1b05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85f32"/>
              </a:gs>
              <a:gs pos="50000">
                <a:srgbClr val="c1b05d"/>
              </a:gs>
              <a:gs pos="100000">
                <a:srgbClr val="685f3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b703b"/>
              </a:gs>
              <a:gs pos="100000">
                <a:srgbClr val="c1b05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57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58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59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0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1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62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e8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3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69e86">
                  <a:alpha val="32156"/>
                </a:srgbClr>
              </a:gs>
              <a:gs pos="100000">
                <a:srgbClr val="2f493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4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75649"/>
              </a:gs>
              <a:gs pos="50000">
                <a:srgbClr val="669e86"/>
              </a:gs>
              <a:gs pos="100000">
                <a:srgbClr val="37564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5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16455"/>
              </a:gs>
              <a:gs pos="100000">
                <a:srgbClr val="669e8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6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67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68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9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0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1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272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3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4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5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6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77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78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79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0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12952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8ca35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5" name="Text Box 32"/>
          <p:cNvSpPr/>
          <p:nvPr/>
        </p:nvSpPr>
        <p:spPr>
          <a:xfrm>
            <a:off x="556272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6" name="Oval 35"/>
          <p:cNvSpPr/>
          <p:nvPr/>
        </p:nvSpPr>
        <p:spPr>
          <a:xfrm rot="20876400">
            <a:off x="331632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7" name="Oval 36"/>
          <p:cNvSpPr/>
          <p:nvPr/>
        </p:nvSpPr>
        <p:spPr>
          <a:xfrm>
            <a:off x="324792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8" name="Oval 37"/>
          <p:cNvSpPr/>
          <p:nvPr/>
        </p:nvSpPr>
        <p:spPr>
          <a:xfrm>
            <a:off x="3268800" y="374328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9" name="Oval 38"/>
          <p:cNvSpPr/>
          <p:nvPr/>
        </p:nvSpPr>
        <p:spPr>
          <a:xfrm>
            <a:off x="328608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0" name="Oval 39"/>
          <p:cNvSpPr/>
          <p:nvPr/>
        </p:nvSpPr>
        <p:spPr>
          <a:xfrm>
            <a:off x="337824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1" name="Text Box 40"/>
          <p:cNvSpPr/>
          <p:nvPr/>
        </p:nvSpPr>
        <p:spPr>
          <a:xfrm>
            <a:off x="366588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2" name="Oval 41"/>
          <p:cNvSpPr/>
          <p:nvPr/>
        </p:nvSpPr>
        <p:spPr>
          <a:xfrm rot="20826600">
            <a:off x="147312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93" name="Group 42"/>
          <p:cNvGrpSpPr/>
          <p:nvPr/>
        </p:nvGrpSpPr>
        <p:grpSpPr>
          <a:xfrm>
            <a:off x="1397160" y="3352680"/>
            <a:ext cx="1371240" cy="1441080"/>
            <a:chOff x="1397160" y="3352680"/>
            <a:chExt cx="1371240" cy="1441080"/>
          </a:xfrm>
        </p:grpSpPr>
        <p:sp>
          <p:nvSpPr>
            <p:cNvPr id="294" name="Oval 43"/>
            <p:cNvSpPr/>
            <p:nvPr/>
          </p:nvSpPr>
          <p:spPr>
            <a:xfrm>
              <a:off x="139716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5" name="Oval 44"/>
            <p:cNvSpPr/>
            <p:nvPr/>
          </p:nvSpPr>
          <p:spPr>
            <a:xfrm>
              <a:off x="141480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6" name="Oval 45"/>
            <p:cNvSpPr/>
            <p:nvPr/>
          </p:nvSpPr>
          <p:spPr>
            <a:xfrm>
              <a:off x="142812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7" name="Oval 46"/>
            <p:cNvSpPr/>
            <p:nvPr/>
          </p:nvSpPr>
          <p:spPr>
            <a:xfrm>
              <a:off x="149976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8" name="Text Box 47"/>
            <p:cNvSpPr/>
            <p:nvPr/>
          </p:nvSpPr>
          <p:spPr>
            <a:xfrm>
              <a:off x="167760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99" name="Oval 48"/>
          <p:cNvSpPr/>
          <p:nvPr/>
        </p:nvSpPr>
        <p:spPr>
          <a:xfrm>
            <a:off x="129528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0" name="Oval 49"/>
          <p:cNvSpPr/>
          <p:nvPr/>
        </p:nvSpPr>
        <p:spPr>
          <a:xfrm>
            <a:off x="137160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1" name="Oval 50"/>
          <p:cNvSpPr/>
          <p:nvPr/>
        </p:nvSpPr>
        <p:spPr>
          <a:xfrm>
            <a:off x="138420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139536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3" name="Oval 52"/>
          <p:cNvSpPr/>
          <p:nvPr/>
        </p:nvSpPr>
        <p:spPr>
          <a:xfrm>
            <a:off x="144936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4" name="Text Box 53"/>
          <p:cNvSpPr/>
          <p:nvPr/>
        </p:nvSpPr>
        <p:spPr>
          <a:xfrm>
            <a:off x="156852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256212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268452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269388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270036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9" name="Oval 58"/>
          <p:cNvSpPr/>
          <p:nvPr/>
        </p:nvSpPr>
        <p:spPr>
          <a:xfrm>
            <a:off x="273672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0" name="Text Box 59"/>
          <p:cNvSpPr/>
          <p:nvPr/>
        </p:nvSpPr>
        <p:spPr>
          <a:xfrm>
            <a:off x="275472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8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3f7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319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0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1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2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3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4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5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6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7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8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29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0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31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2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34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5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6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337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ca35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8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ca35f">
                  <a:alpha val="32156"/>
                </a:srgbClr>
              </a:gs>
              <a:gs pos="100000">
                <a:srgbClr val="414b2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9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c5833"/>
              </a:gs>
              <a:gs pos="50000">
                <a:srgbClr val="8ca35f"/>
              </a:gs>
              <a:gs pos="100000">
                <a:srgbClr val="4c58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0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9683c"/>
              </a:gs>
              <a:gs pos="100000">
                <a:srgbClr val="8ca3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341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2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3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4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5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6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347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9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0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1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2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3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6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7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8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9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0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1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62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3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4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5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6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7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68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9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70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1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2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3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4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5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6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7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8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9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0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1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2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3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84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5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6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7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8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89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0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1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2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3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4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95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6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7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8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402" name="Group 5"/>
          <p:cNvGrpSpPr/>
          <p:nvPr/>
        </p:nvGrpSpPr>
        <p:grpSpPr>
          <a:xfrm>
            <a:off x="4906440" y="2985480"/>
            <a:ext cx="1703520" cy="2679120"/>
            <a:chOff x="4906440" y="2985480"/>
            <a:chExt cx="1703520" cy="2679120"/>
          </a:xfrm>
        </p:grpSpPr>
        <p:grpSp>
          <p:nvGrpSpPr>
            <p:cNvPr id="403" name="Group 6"/>
            <p:cNvGrpSpPr/>
            <p:nvPr/>
          </p:nvGrpSpPr>
          <p:grpSpPr>
            <a:xfrm>
              <a:off x="4906440" y="3164040"/>
              <a:ext cx="1577160" cy="2500560"/>
              <a:chOff x="4906440" y="3164040"/>
              <a:chExt cx="1577160" cy="2500560"/>
            </a:xfrm>
          </p:grpSpPr>
          <p:sp>
            <p:nvSpPr>
              <p:cNvPr id="404" name="Freeform 7"/>
              <p:cNvSpPr/>
              <p:nvPr/>
            </p:nvSpPr>
            <p:spPr>
              <a:xfrm rot="3876600">
                <a:off x="444312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5" name="Freeform 8"/>
              <p:cNvSpPr/>
              <p:nvPr/>
            </p:nvSpPr>
            <p:spPr>
              <a:xfrm rot="3876600">
                <a:off x="594756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9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407" name="Freeform 10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8" name="Freeform 11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Group 12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410" name="Oval 13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1" name="Oval 14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2" name="Oval 15"/>
            <p:cNvSpPr/>
            <p:nvPr/>
          </p:nvSpPr>
          <p:spPr>
            <a:xfrm>
              <a:off x="452268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3" name="Oval 16"/>
            <p:cNvSpPr/>
            <p:nvPr/>
          </p:nvSpPr>
          <p:spPr>
            <a:xfrm>
              <a:off x="452268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4" name="Oval 17"/>
            <p:cNvSpPr/>
            <p:nvPr/>
          </p:nvSpPr>
          <p:spPr>
            <a:xfrm>
              <a:off x="458460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15" name="Group 18"/>
            <p:cNvGrpSpPr/>
            <p:nvPr/>
          </p:nvGrpSpPr>
          <p:grpSpPr>
            <a:xfrm>
              <a:off x="4602240" y="2238480"/>
              <a:ext cx="1090440" cy="1092240"/>
              <a:chOff x="4602240" y="2238480"/>
              <a:chExt cx="1090440" cy="1092240"/>
            </a:xfrm>
          </p:grpSpPr>
          <p:sp>
            <p:nvSpPr>
              <p:cNvPr id="416" name="Oval 19"/>
              <p:cNvSpPr/>
              <p:nvPr/>
            </p:nvSpPr>
            <p:spPr>
              <a:xfrm>
                <a:off x="460224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7" name="Oval 20"/>
              <p:cNvSpPr/>
              <p:nvPr/>
            </p:nvSpPr>
            <p:spPr>
              <a:xfrm>
                <a:off x="461592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8" name="Oval 21"/>
              <p:cNvSpPr/>
              <p:nvPr/>
            </p:nvSpPr>
            <p:spPr>
              <a:xfrm>
                <a:off x="462744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9" name="Oval 22"/>
              <p:cNvSpPr/>
              <p:nvPr/>
            </p:nvSpPr>
            <p:spPr>
              <a:xfrm>
                <a:off x="468648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20" name="Group 23"/>
          <p:cNvGrpSpPr/>
          <p:nvPr/>
        </p:nvGrpSpPr>
        <p:grpSpPr>
          <a:xfrm>
            <a:off x="7138440" y="3058560"/>
            <a:ext cx="1703520" cy="2679120"/>
            <a:chOff x="7138440" y="3058560"/>
            <a:chExt cx="1703520" cy="2679120"/>
          </a:xfrm>
        </p:grpSpPr>
        <p:grpSp>
          <p:nvGrpSpPr>
            <p:cNvPr id="421" name="Group 24"/>
            <p:cNvGrpSpPr/>
            <p:nvPr/>
          </p:nvGrpSpPr>
          <p:grpSpPr>
            <a:xfrm>
              <a:off x="7138440" y="3237120"/>
              <a:ext cx="1577160" cy="2500560"/>
              <a:chOff x="7138440" y="3237120"/>
              <a:chExt cx="1577160" cy="2500560"/>
            </a:xfrm>
          </p:grpSpPr>
          <p:sp>
            <p:nvSpPr>
              <p:cNvPr id="422" name="Freeform 25"/>
              <p:cNvSpPr/>
              <p:nvPr/>
            </p:nvSpPr>
            <p:spPr>
              <a:xfrm rot="3876600">
                <a:off x="6675120" y="4208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23" name="Freeform 26"/>
              <p:cNvSpPr/>
              <p:nvPr/>
            </p:nvSpPr>
            <p:spPr>
              <a:xfrm rot="3876600">
                <a:off x="8179560" y="51768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27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425" name="Freeform 28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26" name="Freeform 29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sp>
        <p:nvSpPr>
          <p:cNvPr id="427" name="Oval 30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9" name="Oval 32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0" name="Oval 33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1" name="Oval 34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432" name="Group 35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433" name="Oval 36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4" name="Oval 37"/>
            <p:cNvSpPr/>
            <p:nvPr/>
          </p:nvSpPr>
          <p:spPr>
            <a:xfrm>
              <a:off x="6669720" y="21218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5" name="Oval 38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6" name="Oval 39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437" name="Group 40"/>
          <p:cNvGrpSpPr/>
          <p:nvPr/>
        </p:nvGrpSpPr>
        <p:grpSpPr>
          <a:xfrm>
            <a:off x="2858760" y="2985120"/>
            <a:ext cx="1704240" cy="2679480"/>
            <a:chOff x="2858760" y="2985120"/>
            <a:chExt cx="1704240" cy="2679480"/>
          </a:xfrm>
        </p:grpSpPr>
        <p:grpSp>
          <p:nvGrpSpPr>
            <p:cNvPr id="438" name="Group 41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439" name="Freeform 42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40" name="Freeform 43"/>
              <p:cNvSpPr/>
              <p:nvPr/>
            </p:nvSpPr>
            <p:spPr>
              <a:xfrm rot="3876600">
                <a:off x="389988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44"/>
            <p:cNvGrpSpPr/>
            <p:nvPr/>
          </p:nvGrpSpPr>
          <p:grpSpPr>
            <a:xfrm>
              <a:off x="3352680" y="2985120"/>
              <a:ext cx="1210320" cy="1918800"/>
              <a:chOff x="3352680" y="2985120"/>
              <a:chExt cx="1210320" cy="1918800"/>
            </a:xfrm>
          </p:grpSpPr>
          <p:sp>
            <p:nvSpPr>
              <p:cNvPr id="442" name="Freeform 45"/>
              <p:cNvSpPr/>
              <p:nvPr/>
            </p:nvSpPr>
            <p:spPr>
              <a:xfrm flipV="1" rot="3876600">
                <a:off x="299736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43" name="Freeform 46"/>
              <p:cNvSpPr/>
              <p:nvPr/>
            </p:nvSpPr>
            <p:spPr>
              <a:xfrm flipV="1" rot="3876600">
                <a:off x="413460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47"/>
          <p:cNvGrpSpPr/>
          <p:nvPr/>
        </p:nvGrpSpPr>
        <p:grpSpPr>
          <a:xfrm>
            <a:off x="2379600" y="2063880"/>
            <a:ext cx="1439640" cy="1439640"/>
            <a:chOff x="2379600" y="2063880"/>
            <a:chExt cx="1439640" cy="1439640"/>
          </a:xfrm>
        </p:grpSpPr>
        <p:sp>
          <p:nvSpPr>
            <p:cNvPr id="445" name="Oval 48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6" name="Oval 49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7" name="Oval 50"/>
            <p:cNvSpPr/>
            <p:nvPr/>
          </p:nvSpPr>
          <p:spPr>
            <a:xfrm>
              <a:off x="247464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8" name="Oval 51"/>
            <p:cNvSpPr/>
            <p:nvPr/>
          </p:nvSpPr>
          <p:spPr>
            <a:xfrm>
              <a:off x="247464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9" name="Oval 52"/>
            <p:cNvSpPr/>
            <p:nvPr/>
          </p:nvSpPr>
          <p:spPr>
            <a:xfrm>
              <a:off x="253656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50" name="Group 53"/>
            <p:cNvGrpSpPr/>
            <p:nvPr/>
          </p:nvGrpSpPr>
          <p:grpSpPr>
            <a:xfrm>
              <a:off x="2554200" y="2238480"/>
              <a:ext cx="1090440" cy="1092240"/>
              <a:chOff x="2554200" y="2238480"/>
              <a:chExt cx="1090440" cy="1092240"/>
            </a:xfrm>
          </p:grpSpPr>
          <p:sp>
            <p:nvSpPr>
              <p:cNvPr id="451" name="Oval 54"/>
              <p:cNvSpPr/>
              <p:nvPr/>
            </p:nvSpPr>
            <p:spPr>
              <a:xfrm>
                <a:off x="255420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2" name="Oval 55"/>
              <p:cNvSpPr/>
              <p:nvPr/>
            </p:nvSpPr>
            <p:spPr>
              <a:xfrm>
                <a:off x="256788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3" name="Oval 56"/>
              <p:cNvSpPr/>
              <p:nvPr/>
            </p:nvSpPr>
            <p:spPr>
              <a:xfrm>
                <a:off x="257940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4" name="Oval 57"/>
              <p:cNvSpPr/>
              <p:nvPr/>
            </p:nvSpPr>
            <p:spPr>
              <a:xfrm>
                <a:off x="263844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Group 58"/>
          <p:cNvGrpSpPr/>
          <p:nvPr/>
        </p:nvGrpSpPr>
        <p:grpSpPr>
          <a:xfrm>
            <a:off x="875880" y="2985120"/>
            <a:ext cx="1704240" cy="2679480"/>
            <a:chOff x="875880" y="2985120"/>
            <a:chExt cx="1704240" cy="2679480"/>
          </a:xfrm>
        </p:grpSpPr>
        <p:grpSp>
          <p:nvGrpSpPr>
            <p:cNvPr id="456" name="Group 59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457" name="Freeform 60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8" name="Freeform 61"/>
              <p:cNvSpPr/>
              <p:nvPr/>
            </p:nvSpPr>
            <p:spPr>
              <a:xfrm rot="3876600">
                <a:off x="191700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62"/>
            <p:cNvGrpSpPr/>
            <p:nvPr/>
          </p:nvGrpSpPr>
          <p:grpSpPr>
            <a:xfrm>
              <a:off x="1369800" y="2985120"/>
              <a:ext cx="1210320" cy="1918800"/>
              <a:chOff x="1369800" y="2985120"/>
              <a:chExt cx="1210320" cy="1918800"/>
            </a:xfrm>
          </p:grpSpPr>
          <p:sp>
            <p:nvSpPr>
              <p:cNvPr id="460" name="Freeform 63"/>
              <p:cNvSpPr/>
              <p:nvPr/>
            </p:nvSpPr>
            <p:spPr>
              <a:xfrm flipV="1" rot="3876600">
                <a:off x="101448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61" name="Freeform 64"/>
              <p:cNvSpPr/>
              <p:nvPr/>
            </p:nvSpPr>
            <p:spPr>
              <a:xfrm flipV="1" rot="3876600">
                <a:off x="215172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Group 65"/>
          <p:cNvGrpSpPr/>
          <p:nvPr/>
        </p:nvGrpSpPr>
        <p:grpSpPr>
          <a:xfrm>
            <a:off x="396720" y="2063880"/>
            <a:ext cx="1439640" cy="1439640"/>
            <a:chOff x="396720" y="2063880"/>
            <a:chExt cx="1439640" cy="1439640"/>
          </a:xfrm>
        </p:grpSpPr>
        <p:sp>
          <p:nvSpPr>
            <p:cNvPr id="463" name="Oval 66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4" name="Oval 67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5" name="Oval 68"/>
            <p:cNvSpPr/>
            <p:nvPr/>
          </p:nvSpPr>
          <p:spPr>
            <a:xfrm>
              <a:off x="49176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6" name="Oval 69"/>
            <p:cNvSpPr/>
            <p:nvPr/>
          </p:nvSpPr>
          <p:spPr>
            <a:xfrm>
              <a:off x="49176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7" name="Oval 70"/>
            <p:cNvSpPr/>
            <p:nvPr/>
          </p:nvSpPr>
          <p:spPr>
            <a:xfrm>
              <a:off x="55368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68" name="Group 71"/>
            <p:cNvGrpSpPr/>
            <p:nvPr/>
          </p:nvGrpSpPr>
          <p:grpSpPr>
            <a:xfrm>
              <a:off x="571320" y="2238480"/>
              <a:ext cx="1090440" cy="1092240"/>
              <a:chOff x="571320" y="2238480"/>
              <a:chExt cx="1090440" cy="1092240"/>
            </a:xfrm>
          </p:grpSpPr>
          <p:sp>
            <p:nvSpPr>
              <p:cNvPr id="469" name="Oval 72"/>
              <p:cNvSpPr/>
              <p:nvPr/>
            </p:nvSpPr>
            <p:spPr>
              <a:xfrm>
                <a:off x="57132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0" name="Oval 73"/>
              <p:cNvSpPr/>
              <p:nvPr/>
            </p:nvSpPr>
            <p:spPr>
              <a:xfrm>
                <a:off x="58500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1" name="Oval 74"/>
              <p:cNvSpPr/>
              <p:nvPr/>
            </p:nvSpPr>
            <p:spPr>
              <a:xfrm>
                <a:off x="59652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2" name="Oval 75"/>
              <p:cNvSpPr/>
              <p:nvPr/>
            </p:nvSpPr>
            <p:spPr>
              <a:xfrm>
                <a:off x="65556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Text Box 76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4" name="Text Box 77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5" name="Text Box 78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6" name="Text Box 79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7" name="Text Box 80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8" name="Text Box 81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9" name="Text Box 82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0" name="Text Box 83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1" name="Text Box 84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2" name="Text Box 85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3" name="Text Box 86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4" name="Text Box 87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cxnSp>
        <p:nvCxnSpPr>
          <p:cNvPr id="485" name="AutoShape 88"/>
          <p:cNvCxnSpPr>
            <a:stCxn id="481" idx="3"/>
            <a:endCxn id="482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  <p:cxnSp>
        <p:nvCxnSpPr>
          <p:cNvPr id="486" name="AutoShape 89"/>
          <p:cNvCxnSpPr>
            <a:stCxn id="482" idx="3"/>
            <a:endCxn id="483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  <p:cxnSp>
        <p:nvCxnSpPr>
          <p:cNvPr id="487" name="AutoShape 90"/>
          <p:cNvCxnSpPr>
            <a:stCxn id="483" idx="3"/>
            <a:endCxn id="484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0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1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2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3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4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00" name="Group 7"/>
          <p:cNvGrpSpPr/>
          <p:nvPr/>
        </p:nvGrpSpPr>
        <p:grpSpPr>
          <a:xfrm>
            <a:off x="1111680" y="1553040"/>
            <a:ext cx="6437160" cy="1388520"/>
            <a:chOff x="1111680" y="1553040"/>
            <a:chExt cx="6437160" cy="1388520"/>
          </a:xfrm>
        </p:grpSpPr>
        <p:sp>
          <p:nvSpPr>
            <p:cNvPr id="501" name="Rectangle 8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02" name="Group 9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503" name="Oval 10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4" name="Rectangle 11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5" name="Oval 12"/>
              <p:cNvSpPr/>
              <p:nvPr/>
            </p:nvSpPr>
            <p:spPr>
              <a:xfrm>
                <a:off x="307692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6" name="Oval 13"/>
              <p:cNvSpPr/>
              <p:nvPr/>
            </p:nvSpPr>
            <p:spPr>
              <a:xfrm>
                <a:off x="3154680" y="199368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07" name="Rectangle 14"/>
            <p:cNvSpPr/>
            <p:nvPr/>
          </p:nvSpPr>
          <p:spPr>
            <a:xfrm rot="3418800">
              <a:off x="304308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08" name="Group 15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509" name="Oval 16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0" name="Rectangle 17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1" name="Oval 18"/>
              <p:cNvSpPr/>
              <p:nvPr/>
            </p:nvSpPr>
            <p:spPr>
              <a:xfrm>
                <a:off x="479844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2" name="Oval 19"/>
              <p:cNvSpPr/>
              <p:nvPr/>
            </p:nvSpPr>
            <p:spPr>
              <a:xfrm>
                <a:off x="4874400" y="19936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13" name="Rectangle 20"/>
            <p:cNvSpPr/>
            <p:nvPr/>
          </p:nvSpPr>
          <p:spPr>
            <a:xfrm rot="3418800">
              <a:off x="469296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14" name="Group 21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515" name="Oval 22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6" name="Rectangle 23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7" name="Oval 24"/>
              <p:cNvSpPr/>
              <p:nvPr/>
            </p:nvSpPr>
            <p:spPr>
              <a:xfrm>
                <a:off x="6762600" y="195264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8" name="Oval 25"/>
              <p:cNvSpPr/>
              <p:nvPr/>
            </p:nvSpPr>
            <p:spPr>
              <a:xfrm>
                <a:off x="6861960" y="199368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19" name="Rectangle 26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20" name="Rectangle 27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1" name="Rectangle 28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2" name="Rectangle 29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3" name="Rectangle 30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4" name="Rectangle 31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5" name="Rectangle 32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6" name="Rectangle 33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7" name="Rectangle 34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762120" y="1752480"/>
          <a:ext cx="7619760" cy="3702240"/>
        </p:xfrm>
        <a:graphic>
          <a:graphicData uri="http://schemas.openxmlformats.org/drawingml/2006/table">
            <a:tbl>
              <a:tblPr/>
              <a:tblGrid>
                <a:gridCol w="1522440"/>
                <a:gridCol w="1218960"/>
                <a:gridCol w="1219320"/>
                <a:gridCol w="1219320"/>
                <a:gridCol w="1220760"/>
                <a:gridCol w="1218960"/>
              </a:tblGrid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4940"/>
                      </a:solidFill>
                    </a:lnR>
                    <a:lnT>
                      <a:noFill/>
                    </a:lnT>
                    <a:lnB w="5760">
                      <a:solidFill>
                        <a:srgbClr val="1d49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1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2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3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4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b6c59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5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76e5e"/>
                </a:gs>
                <a:gs pos="100000">
                  <a:srgbClr val="669e8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6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ced8b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7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8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9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0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1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2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3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8ca35f">
                    <a:alpha val="19215"/>
                  </a:srgbClr>
                </a:gs>
                <a:gs pos="100000">
                  <a:srgbClr val="b2c2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4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c689"/>
                </a:gs>
                <a:gs pos="100000">
                  <a:srgbClr val="c1b0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5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6f6536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6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d8c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7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8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3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716f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54" name="Group 6"/>
          <p:cNvGrpSpPr/>
          <p:nvPr/>
        </p:nvGrpSpPr>
        <p:grpSpPr>
          <a:xfrm>
            <a:off x="6781680" y="4176720"/>
            <a:ext cx="1544760" cy="1766880"/>
            <a:chOff x="6781680" y="4176720"/>
            <a:chExt cx="1544760" cy="1766880"/>
          </a:xfrm>
        </p:grpSpPr>
        <p:sp>
          <p:nvSpPr>
            <p:cNvPr id="555" name="Oval 7"/>
            <p:cNvSpPr/>
            <p:nvPr/>
          </p:nvSpPr>
          <p:spPr>
            <a:xfrm>
              <a:off x="69343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6" name="Oval 8"/>
            <p:cNvSpPr/>
            <p:nvPr/>
          </p:nvSpPr>
          <p:spPr>
            <a:xfrm>
              <a:off x="6781680" y="417672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7" name="Oval 9"/>
            <p:cNvSpPr/>
            <p:nvPr/>
          </p:nvSpPr>
          <p:spPr>
            <a:xfrm>
              <a:off x="681516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1b05d">
                    <a:alpha val="85098"/>
                  </a:srgbClr>
                </a:gs>
                <a:gs pos="100000">
                  <a:srgbClr val="7b703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8" name="Oval 10"/>
            <p:cNvSpPr/>
            <p:nvPr/>
          </p:nvSpPr>
          <p:spPr>
            <a:xfrm>
              <a:off x="6872400" y="42670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c1b05d"/>
                </a:gs>
                <a:gs pos="100000">
                  <a:srgbClr val="8c80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59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 Box 12"/>
            <p:cNvSpPr/>
            <p:nvPr/>
          </p:nvSpPr>
          <p:spPr>
            <a:xfrm>
              <a:off x="713160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61" name="Group 13"/>
          <p:cNvGrpSpPr/>
          <p:nvPr/>
        </p:nvGrpSpPr>
        <p:grpSpPr>
          <a:xfrm>
            <a:off x="4800600" y="4176720"/>
            <a:ext cx="1544760" cy="1766880"/>
            <a:chOff x="4800600" y="4176720"/>
            <a:chExt cx="1544760" cy="1766880"/>
          </a:xfrm>
        </p:grpSpPr>
        <p:sp>
          <p:nvSpPr>
            <p:cNvPr id="562" name="Oval 14"/>
            <p:cNvSpPr/>
            <p:nvPr/>
          </p:nvSpPr>
          <p:spPr>
            <a:xfrm>
              <a:off x="4952880" y="56386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3" name="Oval 15"/>
            <p:cNvSpPr/>
            <p:nvPr/>
          </p:nvSpPr>
          <p:spPr>
            <a:xfrm>
              <a:off x="4800600" y="417672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4" name="Oval 16"/>
            <p:cNvSpPr/>
            <p:nvPr/>
          </p:nvSpPr>
          <p:spPr>
            <a:xfrm>
              <a:off x="483408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69e86">
                    <a:alpha val="85098"/>
                  </a:srgbClr>
                </a:gs>
                <a:gs pos="100000">
                  <a:srgbClr val="4164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5" name="Oval 17"/>
            <p:cNvSpPr/>
            <p:nvPr/>
          </p:nvSpPr>
          <p:spPr>
            <a:xfrm>
              <a:off x="489096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69e86"/>
                </a:gs>
                <a:gs pos="100000">
                  <a:srgbClr val="4a73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66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19"/>
            <p:cNvSpPr/>
            <p:nvPr/>
          </p:nvSpPr>
          <p:spPr>
            <a:xfrm>
              <a:off x="515016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68" name="Group 20"/>
          <p:cNvGrpSpPr/>
          <p:nvPr/>
        </p:nvGrpSpPr>
        <p:grpSpPr>
          <a:xfrm>
            <a:off x="2819520" y="4176720"/>
            <a:ext cx="1544400" cy="1766880"/>
            <a:chOff x="2819520" y="4176720"/>
            <a:chExt cx="1544400" cy="1766880"/>
          </a:xfrm>
        </p:grpSpPr>
        <p:sp>
          <p:nvSpPr>
            <p:cNvPr id="569" name="Oval 21"/>
            <p:cNvSpPr/>
            <p:nvPr/>
          </p:nvSpPr>
          <p:spPr>
            <a:xfrm>
              <a:off x="297180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0" name="Oval 22"/>
            <p:cNvSpPr/>
            <p:nvPr/>
          </p:nvSpPr>
          <p:spPr>
            <a:xfrm>
              <a:off x="2819520" y="417672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1" name="Oval 23"/>
            <p:cNvSpPr/>
            <p:nvPr/>
          </p:nvSpPr>
          <p:spPr>
            <a:xfrm>
              <a:off x="285264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ca35f">
                    <a:alpha val="85098"/>
                  </a:srgbClr>
                </a:gs>
                <a:gs pos="100000">
                  <a:srgbClr val="596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2" name="Oval 24"/>
            <p:cNvSpPr/>
            <p:nvPr/>
          </p:nvSpPr>
          <p:spPr>
            <a:xfrm>
              <a:off x="290988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6676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73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2670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26"/>
            <p:cNvSpPr/>
            <p:nvPr/>
          </p:nvSpPr>
          <p:spPr>
            <a:xfrm>
              <a:off x="316908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75" name="Group 27"/>
          <p:cNvGrpSpPr/>
          <p:nvPr/>
        </p:nvGrpSpPr>
        <p:grpSpPr>
          <a:xfrm>
            <a:off x="880920" y="4176720"/>
            <a:ext cx="1544760" cy="1766880"/>
            <a:chOff x="880920" y="4176720"/>
            <a:chExt cx="1544760" cy="1766880"/>
          </a:xfrm>
        </p:grpSpPr>
        <p:sp>
          <p:nvSpPr>
            <p:cNvPr id="576" name="Oval 28"/>
            <p:cNvSpPr/>
            <p:nvPr/>
          </p:nvSpPr>
          <p:spPr>
            <a:xfrm>
              <a:off x="9907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7" name="Oval 29"/>
            <p:cNvSpPr/>
            <p:nvPr/>
          </p:nvSpPr>
          <p:spPr>
            <a:xfrm>
              <a:off x="880920" y="417672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8" name="Oval 30"/>
            <p:cNvSpPr/>
            <p:nvPr/>
          </p:nvSpPr>
          <p:spPr>
            <a:xfrm>
              <a:off x="91440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f716f">
                    <a:alpha val="85098"/>
                  </a:srgbClr>
                </a:gs>
                <a:gs pos="100000">
                  <a:srgbClr val="2848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9" name="Oval 31"/>
            <p:cNvSpPr/>
            <p:nvPr/>
          </p:nvSpPr>
          <p:spPr>
            <a:xfrm>
              <a:off x="97164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f716f"/>
                </a:gs>
                <a:gs pos="100000">
                  <a:srgbClr val="2e52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80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33"/>
            <p:cNvSpPr/>
            <p:nvPr/>
          </p:nvSpPr>
          <p:spPr>
            <a:xfrm>
              <a:off x="123084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98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99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0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414b2c"/>
                </a:gs>
                <a:gs pos="100000">
                  <a:srgbClr val="8ca35f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2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3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05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111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2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3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4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414b2c"/>
                </a:gs>
                <a:gs pos="100000">
                  <a:srgbClr val="8ca35f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15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16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8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19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83" name="WordArt 3"/>
          <p:cNvSpPr txBox="1"/>
          <p:nvPr/>
        </p:nvSpPr>
        <p:spPr>
          <a:xfrm>
            <a:off x="2362320" y="434340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4940"/>
                    </a:gs>
                    <a:gs pos="100000">
                      <a:srgbClr val="a2cab4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4940"/>
                  </a:gs>
                  <a:gs pos="100000">
                    <a:srgbClr val="a2cab4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1523880" y="5181480"/>
            <a:ext cx="664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494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1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134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35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36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ca35f"/>
                  </a:gs>
                  <a:gs pos="100000">
                    <a:srgbClr val="444f2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cd6b8"/>
                  </a:gs>
                  <a:gs pos="100000">
                    <a:srgbClr val="8ca35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138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69e86">
                    <a:alpha val="0"/>
                  </a:srgbClr>
                </a:gs>
                <a:gs pos="100000">
                  <a:srgbClr val="cadd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0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17d6a"/>
                </a:gs>
                <a:gs pos="100000">
                  <a:srgbClr val="669e86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e86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42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581040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143000" y="1722240"/>
            <a:ext cx="7328520" cy="4583520"/>
            <a:chOff x="1143000" y="1722240"/>
            <a:chExt cx="7328520" cy="4583520"/>
          </a:xfrm>
        </p:grpSpPr>
        <p:sp>
          <p:nvSpPr>
            <p:cNvPr id="146" name="Freeform 4"/>
            <p:cNvSpPr/>
            <p:nvPr/>
          </p:nvSpPr>
          <p:spPr>
            <a:xfrm rot="20241600">
              <a:off x="177264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7" name="Oval 5"/>
            <p:cNvSpPr/>
            <p:nvPr/>
          </p:nvSpPr>
          <p:spPr>
            <a:xfrm rot="20056200">
              <a:off x="472392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8" name="Oval 6"/>
            <p:cNvSpPr/>
            <p:nvPr/>
          </p:nvSpPr>
          <p:spPr>
            <a:xfrm rot="20056200">
              <a:off x="739080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9" name="Oval 7"/>
            <p:cNvSpPr/>
            <p:nvPr/>
          </p:nvSpPr>
          <p:spPr>
            <a:xfrm rot="20056200">
              <a:off x="327600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 rot="20056200">
              <a:off x="586692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 rot="20056200">
              <a:off x="243792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420192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3038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196668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69e86"/>
                </a:gs>
                <a:gs pos="100000">
                  <a:srgbClr val="20322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275112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3a48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521964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684504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c1b05d"/>
                </a:gs>
                <a:gs pos="100000">
                  <a:srgbClr val="433d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220428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8" name="Text Box 16"/>
            <p:cNvSpPr/>
            <p:nvPr/>
          </p:nvSpPr>
          <p:spPr>
            <a:xfrm>
              <a:off x="450756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711756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0" name="Text Box 18"/>
            <p:cNvSpPr/>
            <p:nvPr/>
          </p:nvSpPr>
          <p:spPr>
            <a:xfrm>
              <a:off x="552528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01536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80988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494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2982960" y="2452680"/>
              <a:ext cx="1627200" cy="125100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cxnSp>
          <p:nvCxnSpPr>
            <p:cNvPr id="164" name="AutoShape 22"/>
            <p:cNvCxnSpPr/>
            <p:nvPr/>
          </p:nvCxnSpPr>
          <p:spPr>
            <a:xfrm flipH="1">
              <a:off x="1267560" y="2452320"/>
              <a:ext cx="1726200" cy="1080"/>
            </a:xfrm>
            <a:prstGeom prst="straightConnector1">
              <a:avLst/>
            </a:prstGeom>
            <a:ln w="9360">
              <a:solidFill>
                <a:srgbClr val="1d4940"/>
              </a:solidFill>
              <a:miter/>
            </a:ln>
          </p:spPr>
        </p:cxnSp>
        <p:sp>
          <p:nvSpPr>
            <p:cNvPr id="165" name="Text Box 23"/>
            <p:cNvSpPr/>
            <p:nvPr/>
          </p:nvSpPr>
          <p:spPr>
            <a:xfrm>
              <a:off x="114300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3657600" y="38098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3657600" y="32767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3657600" y="27432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198680" y="2973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198680" y="3506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198680" y="4040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2971800" y="25146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3f716f"/>
              </a:gs>
              <a:gs pos="100000">
                <a:srgbClr val="1d3433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4" name="AutoShape 10"/>
          <p:cNvSpPr/>
          <p:nvPr/>
        </p:nvSpPr>
        <p:spPr>
          <a:xfrm>
            <a:off x="99072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1066680" y="22096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6" name="AutoShape 12"/>
          <p:cNvSpPr/>
          <p:nvPr/>
        </p:nvSpPr>
        <p:spPr>
          <a:xfrm>
            <a:off x="617220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248520" y="22096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5489640" y="25146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1d3433">
                  <a:alpha val="12156"/>
                </a:srgbClr>
              </a:gs>
              <a:gs pos="100000">
                <a:srgbClr val="3f7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2895480" y="13716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414b2c"/>
              </a:gs>
              <a:gs pos="50000">
                <a:srgbClr val="8ca35f"/>
              </a:gs>
              <a:gs pos="100000">
                <a:srgbClr val="414b2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3624120" y="21337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3f716f"/>
              </a:gs>
              <a:gs pos="100000">
                <a:srgbClr val="85a5a4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4174920" y="1604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2" name="AutoShape 18"/>
          <p:cNvSpPr/>
          <p:nvPr/>
        </p:nvSpPr>
        <p:spPr>
          <a:xfrm>
            <a:off x="2971800" y="51055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4174920" y="5338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4" name="AutoShape 20"/>
          <p:cNvSpPr/>
          <p:nvPr/>
        </p:nvSpPr>
        <p:spPr>
          <a:xfrm>
            <a:off x="3602160" y="44956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85a5a4">
                  <a:alpha val="12156"/>
                </a:srgbClr>
              </a:gs>
              <a:gs pos="100000">
                <a:srgbClr val="3f71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187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9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1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2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ca35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3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4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c5833"/>
                </a:gs>
                <a:gs pos="50000">
                  <a:srgbClr val="8ca35f"/>
                </a:gs>
                <a:gs pos="100000">
                  <a:srgbClr val="4c58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5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96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0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1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3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2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3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5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6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2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3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6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7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8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9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0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1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4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5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7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533520" y="1295280"/>
            <a:ext cx="5715000" cy="4496040"/>
          </a:xfrm>
          <a:prstGeom prst="rightArrow">
            <a:avLst>
              <a:gd name="adj1" fmla="val 79306"/>
              <a:gd name="adj2" fmla="val 31484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838080" y="1905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838080" y="3048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838080" y="4191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5:30Z</dcterms:created>
  <dc:creator>Admin</dc:creator>
  <dc:description/>
  <dc:language>en-US</dc:language>
  <cp:lastModifiedBy>Nga</cp:lastModifiedBy>
  <dcterms:modified xsi:type="dcterms:W3CDTF">2017-09-15T09:01:54Z</dcterms:modified>
  <cp:revision>3</cp:revision>
  <dc:subject/>
  <dc:title>PowerPoint Template</dc:title>
</cp:coreProperties>
</file>